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5B5-827C-457B-A967-5E55404D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DFE-9D0E-41E5-B767-660B6137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B4C-F7F5-41F8-A4C5-831B7F6E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5BD-9E6F-4E00-98AC-6796B217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78E4-6422-4405-B9AF-252ED1B4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0503-1A1E-4982-9D39-7B8664D9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72C-1374-4EC7-8082-FD83BA20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FB40-7E76-4087-BEDE-EBB9F3B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66AA-C591-4B6B-BF8B-5D523E01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2E38-6A29-4CAE-9E8C-26EEC776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9666-1C26-49A0-A622-C5748ADA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166-1A80-45A4-BEF2-53B0D01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29B3-254D-4F9A-A69F-360AEF4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3BAE-AC81-42BD-972B-5721A054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8B26-9A02-488F-B588-5A43E682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A51B-5702-4066-B61C-8E530112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A36C-6805-4AAB-83AE-223BE404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ECB-7B31-457B-9CD4-CB239E33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356-D300-4C66-82B4-0318E9BE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FB5-6895-4C78-A405-95ED687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F01-9A95-4643-96F7-1405DB49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432-E127-4180-A832-251669B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448-C13F-4C47-A9E8-81F39C9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054-F56D-48A0-AC75-3DCB2C21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F66-FD3F-4AF8-987D-6EDC1D32CC5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FB8-3F20-4B95-A081-89DE929DF26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¡Las Comidas! (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51920" y="5181480"/>
            <a:ext cx="3886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" sz="1800" spc="-1" strike="noStrike">
                <a:solidFill>
                  <a:srgbClr val="07fb18"/>
                </a:solidFill>
                <a:latin typeface="Arial Black"/>
              </a:rPr>
              <a:t>Por</a:t>
            </a:r>
            <a:r>
              <a:rPr b="0" lang="en-US" sz="3200" spc="-1" strike="noStrike">
                <a:solidFill>
                  <a:srgbClr val="07fb18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7fb18"/>
                </a:solidFill>
                <a:latin typeface="Arial Black"/>
              </a:rPr>
              <a:t>Alicia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fb18"/>
                </a:solidFill>
                <a:latin typeface="Arial Black"/>
              </a:rPr>
              <a:t>Maradiaga</a:t>
            </a:r>
            <a:br>
              <a:rPr sz="1800"/>
            </a:br>
            <a:r>
              <a:rPr b="0" lang="es-ES" sz="1200" spc="-1" strike="noStrike">
                <a:solidFill>
                  <a:srgbClr val="07fb18"/>
                </a:solidFill>
                <a:latin typeface="Arial Black"/>
              </a:rPr>
              <a:t>F período español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 Desayuno :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Para el desayuno me gusta comer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Panqueques de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arándano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br>
              <a:rPr sz="3200"/>
            </a:b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Jugo de arándan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Tocino y huevo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467480" y="5551560"/>
            <a:ext cx="1676520" cy="1306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39625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Almuerzo :D (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La Almuerzo me gusta comer:</a:t>
            </a:r>
            <a:br>
              <a:rPr sz="3200"/>
            </a:b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salada César </a:t>
            </a: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y chocolate con leche con una pajita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Turquía y salsa picante sándwich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Chili perro ques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46748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5122800"/>
            <a:ext cx="1905120" cy="1735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2666880" y="5329080"/>
            <a:ext cx="1600200" cy="1528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4800600" y="4419720"/>
            <a:ext cx="1622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ena :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el La Cena me gusta comer:</a:t>
            </a:r>
            <a:br>
              <a:rPr sz="3200"/>
            </a:br>
            <a:br>
              <a:rPr sz="3200"/>
            </a:b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Macarrones con queso d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0" lang="es-ES" sz="1600" spc="-1" strike="noStrike">
                <a:solidFill>
                  <a:srgbClr val="ffcc00"/>
                </a:solidFill>
                <a:latin typeface="Arial Black"/>
              </a:rPr>
              <a:t>Patatas gratinada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Cerveza de raíz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029200" y="5410080"/>
            <a:ext cx="17049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12:57Z</dcterms:created>
  <dc:creator>maradiagaali</dc:creator>
  <dc:description/>
  <dc:language>en-US</dc:language>
  <cp:lastModifiedBy>maradiagaali</cp:lastModifiedBy>
  <dcterms:modified xsi:type="dcterms:W3CDTF">2011-04-14T15:02:09Z</dcterms:modified>
  <cp:revision>3</cp:revision>
  <dc:subject/>
  <dc:title>Las Comidas (: </dc:title>
</cp:coreProperties>
</file>